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FD7-69B7-495D-9319-07F7D3DA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C5A-7A6B-4355-94BF-4C313F2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04A-FF6D-4986-81EB-B0A2107F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1D0-8D68-4D2C-AB8F-0F2816EF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5C4-AEFF-461B-AB3B-20ED2818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465F-B068-464F-943B-1DB0203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92DA-917C-4F31-9797-40FF368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F45-54EC-40E4-969E-014EFBA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790-88DB-4409-AB15-55E43D0C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4E06-3F28-4061-B9E0-A50564C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5763-FBD6-4478-8E80-F91D3E5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4E4-B905-4670-83A8-0545E96D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C62B-E1D1-49AC-BE87-0A3F336C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F1E-7E91-41B5-A1C9-7557399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4D11-C82F-431F-96B3-A49EF7FB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5AF6-C6F6-4DBF-BD3A-ADF502BD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7EC3-7A4A-432E-8054-AFFB995C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4C9-1125-4A28-8552-CBE4BCA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DE6-C9DB-4F74-A0F7-0B27ADA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5F7-DA4D-4602-A5E3-D974B5A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343-3DD9-4EA1-A3FB-5C78ABA6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33C-5AD0-4B3F-9350-5E2D73B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0BD-54CB-4181-82B0-931C501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69C-67AD-4EEC-9E6D-C372C9F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109-4663-45EE-AC89-ADC69AFD6ED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B77-3DBE-43A9-8978-64325CD1A68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81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equations in slope-intercep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2895480"/>
                <a:ext cx="403848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1320" y="3352680"/>
                <a:ext cx="106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781680" y="2971800"/>
                <a:ext cx="11001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924680" y="320040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4343400"/>
                <a:ext cx="480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4876920"/>
                <a:ext cx="7876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952880" y="4876920"/>
                <a:ext cx="7876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981080" y="5486400"/>
            <a:ext cx="464832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486400"/>
                <a:ext cx="3200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733920" y="6248520"/>
            <a:ext cx="6858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6172200"/>
            <a:ext cx="6858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6172200"/>
            <a:ext cx="6858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29200" y="6095880"/>
                <a:ext cx="48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248520" y="6095880"/>
                <a:ext cx="487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9880" y="6172200"/>
                <a:ext cx="43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43000" y="5791320"/>
                <a:ext cx="2362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the equation in standar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362320" y="2709720"/>
                <a:ext cx="4419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743200" y="2895480"/>
                <a:ext cx="544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419720" y="2895480"/>
                <a:ext cx="544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705720" y="2895480"/>
                <a:ext cx="544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352680" y="36576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2971800"/>
            <a:ext cx="30456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6576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9718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6576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9718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2514600"/>
                <a:ext cx="412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95680" y="2514600"/>
                <a:ext cx="349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05720" y="2514600"/>
                <a:ext cx="40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819520" y="4191120"/>
                <a:ext cx="1054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86200" y="4191120"/>
                <a:ext cx="1378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81480" y="4191120"/>
                <a:ext cx="990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62320" y="4724280"/>
                <a:ext cx="1523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95880" y="4724280"/>
                <a:ext cx="1524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181480" y="472428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523880" y="4648320"/>
                <a:ext cx="952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752480" y="5410080"/>
            <a:ext cx="586764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95480" y="541008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9880" y="5410080"/>
                <a:ext cx="13780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05520" y="5410080"/>
                <a:ext cx="1523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447920" y="6019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06600" y="6089760"/>
                <a:ext cx="831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0400" y="6073920"/>
                <a:ext cx="152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00600" y="6189840"/>
                <a:ext cx="685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62720" y="6033960"/>
                <a:ext cx="990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rite the equation in slope intercept 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219320" y="2743200"/>
                <a:ext cx="7619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ntercep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5,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ntercep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3880" y="3429000"/>
                <a:ext cx="1524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048120" y="3429000"/>
                <a:ext cx="1346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800600" y="3276720"/>
                <a:ext cx="289548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248520" y="3352680"/>
                <a:ext cx="13395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324480" y="3886200"/>
                <a:ext cx="1155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43800" y="3657600"/>
                <a:ext cx="685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8077320" y="3276720"/>
                <a:ext cx="82872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229600" y="3352680"/>
                <a:ext cx="6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8381880" y="3886200"/>
                <a:ext cx="395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09680" y="4495680"/>
                <a:ext cx="1758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064040" y="4191120"/>
                <a:ext cx="704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648320" y="4495680"/>
                <a:ext cx="1577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95480" y="5867280"/>
                <a:ext cx="11052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038480" y="5410080"/>
                <a:ext cx="11192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19840" y="5742000"/>
                <a:ext cx="1314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ve each system of equ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66680" y="2666880"/>
                <a:ext cx="35816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95680" y="3048120"/>
            <a:ext cx="762120" cy="0"/>
          </a:xfrm>
          <a:prstGeom prst="line">
            <a:avLst/>
          </a:prstGeom>
          <a:ln w="5724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733920"/>
            <a:ext cx="762120" cy="0"/>
          </a:xfrm>
          <a:prstGeom prst="line">
            <a:avLst/>
          </a:prstGeom>
          <a:ln w="5724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3440" y="243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410080" y="2590920"/>
                <a:ext cx="987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05520" y="3200400"/>
                <a:ext cx="13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486400" y="3809880"/>
            <a:ext cx="36576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477120" y="3733920"/>
                <a:ext cx="1143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543800" y="3765600"/>
                <a:ext cx="1600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553080" y="4419720"/>
            <a:ext cx="9144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05720" y="4343400"/>
                <a:ext cx="793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8001000" y="4419720"/>
            <a:ext cx="11430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153280" y="4343400"/>
                <a:ext cx="793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934320" y="4952880"/>
                <a:ext cx="58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467480" y="4876920"/>
                <a:ext cx="1371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 flipH="1">
            <a:off x="1066680" y="3124080"/>
            <a:ext cx="60984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3809880"/>
            <a:ext cx="30492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76520" y="3962520"/>
                <a:ext cx="27543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362320" y="4495680"/>
                <a:ext cx="98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352680" y="4495680"/>
                <a:ext cx="98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600200" y="5181480"/>
            <a:ext cx="289548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66880" y="5105520"/>
                <a:ext cx="785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352680" y="5105520"/>
                <a:ext cx="1143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90920" y="5715000"/>
            <a:ext cx="76176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819520" y="5638680"/>
                <a:ext cx="482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86200" y="5638680"/>
                <a:ext cx="4827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733920" y="5715000"/>
            <a:ext cx="76176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6248520"/>
                <a:ext cx="54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352680" y="6203880"/>
                <a:ext cx="957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05520" y="5638680"/>
                <a:ext cx="1726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324480" y="2590920"/>
                <a:ext cx="1346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696080" y="2590920"/>
                <a:ext cx="1071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324480" y="3156120"/>
                <a:ext cx="139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702560" y="3200400"/>
                <a:ext cx="1441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d the vertex and axis of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828800" y="2743200"/>
                <a:ext cx="4495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676520" y="3429000"/>
                <a:ext cx="15206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352680" y="3429000"/>
                <a:ext cx="14464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62520" y="4114800"/>
                <a:ext cx="723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76920" y="3619440"/>
                <a:ext cx="990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752480" y="4724280"/>
                <a:ext cx="4462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52480" y="5562720"/>
                <a:ext cx="1648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29000" y="5562720"/>
                <a:ext cx="116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5562720"/>
                <a:ext cx="95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62720" y="5410080"/>
                <a:ext cx="10429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d the vertex and axis of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657600" y="3733920"/>
                <a:ext cx="1949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870520" y="3657600"/>
                <a:ext cx="1287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90720" y="4648320"/>
                <a:ext cx="4647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 of Symmetry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905440" y="4572000"/>
                <a:ext cx="16574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743200"/>
            <a:ext cx="74678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66"/>
                </a:solidFill>
                <a:latin typeface="Chiller"/>
              </a:rPr>
              <a:t>Bookwork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66"/>
                </a:solidFill>
                <a:latin typeface="Chiller"/>
              </a:rPr>
              <a:t>pg. 663 #2-60 eve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6:55:33Z</dcterms:created>
  <dc:creator>CCSS</dc:creator>
  <dc:description/>
  <dc:language>en-US</dc:language>
  <cp:lastModifiedBy>CCSS</cp:lastModifiedBy>
  <dcterms:modified xsi:type="dcterms:W3CDTF">2002-05-14T14:24:30Z</dcterms:modified>
  <cp:revision>7</cp:revision>
  <dc:subject/>
  <dc:title>NOTES  OVER               2 - VARIABLES</dc:title>
</cp:coreProperties>
</file>